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3ADE-5050-4121-94CB-9B11AA23F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7BDB-5BC8-4556-BD9D-665C95B90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67AF-3AB7-4752-8EB8-4AAD6033E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117B-89DD-42F5-BF19-954C08296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04D2D-C0EF-4440-A622-BD18AD6E8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4D59A-CA98-4294-A135-CEF892B9E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96F0B-9E85-4CFC-9284-CFBBB3159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BAF85-77D8-4945-BDF7-E265BFC03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D1398-8148-486D-87D8-6C1EE1C9F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90B04-84D2-44F3-9C67-E6613EF93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91710-0BFA-4CC1-A1A5-E56CFF9D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1ED9-7E3C-4CF8-8952-ED314A1BF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62B37-70BD-47EC-8B04-93BFBA61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04528-1E81-4609-8BD0-8A45655D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AF2D3-6AAB-47C6-B4E8-E87FEADB7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A6F35-4E3A-4CF2-9589-FAE88A4EF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7F6BE-A733-43AF-B648-503B68A9B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7C2C1-AB1F-4FE7-A664-6C1F5CB22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305FF-94E8-4346-9243-2E8CF969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C120C-12D8-4B46-A11E-408176468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BA07D-73FC-4756-AEE1-0AF978EA6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E24EF-01EC-4BAB-A2E4-22D4127DB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AEFF-9F6D-4A78-B063-DD555C2EC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0B214-A72C-48C1-9FA0-9525F8063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87805-D0A0-40A5-A0C2-DFF214C0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A5749-E523-4573-96CB-B192EE41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28BE5-97E4-4E88-8CDF-4C87BF52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17482-E818-4E19-9766-78B4CE332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EEC59-FB0D-4DBF-A0EE-AD504A454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F3629-F214-4A44-9787-062399DC2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8BC7B-856D-470B-BBD1-55E76918C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B5F8B-1876-4024-9B7E-E647FBA8E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A464C-576D-4BFC-9AB9-6A9676B39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DE64-3703-42D4-979B-250DB6245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792E7-C54F-4E65-92ED-0D7D5A6C6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734F2-A992-4568-B9EA-B0AD7006C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07742-E60A-414A-A85D-2710CABFE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0B1EE-39F8-4FE4-83CA-5725BC6B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04D03-5A71-4DE7-B0AA-A08612BA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F537E-FE9A-4EFF-9F93-1C987FD5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6CD41-F34C-42D5-A444-4AF6E1667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339CF-3479-4F4E-96F9-AF5B99A53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EB1AB-8DA8-4A40-91C5-BA58C0D43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B800D-9A77-436F-9190-D9A05DAC3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E091-BA85-4B1A-A0EA-6C372A10B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CBE63-E471-4E65-A34E-F6479508C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F352F-391A-44B5-9932-FF80D92A4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26A9DF-6606-4FB3-849D-B176EBD86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9F89B-2BD5-4248-9C43-2080CBE17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0C9D4-B61D-4E76-B739-F455B0797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E2080-A94E-473B-A663-B7BDC02F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92B68-EB81-45A6-AA37-F558966E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37A9F-A30F-4A14-B650-323942F2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06543-AF72-418D-8D53-175DED3FF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5DFC6-493C-4DED-A41E-12415D14F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04FF-E952-4603-B356-F3178260D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F936D-0CAD-49C1-86A0-8ED8A0C59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AEA19B-215C-4D91-B1AF-AA2B9754C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1E8FB2-853A-49B6-8F83-7C2924A37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F4515-2112-4CCF-A60A-D73B36230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3B457-8E8C-4576-9353-6E3A503F5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CEA857-8D78-479B-9376-DCC1C0311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12B1B3-2643-41BE-AA89-70362FFF1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EA124-95E4-4A6A-8335-8CF67FE2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A3418-7857-411C-ADC3-B315430F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B61C0D-963F-4AFD-AC03-AAECB66B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F013-E9DE-4E07-ADA2-DB0F3D5A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6BD92-E7A6-4E0B-BF0F-369CE8CB9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1B59B-5E42-477B-9F46-34D84165B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8C4572-8F78-4B38-B778-8E48BDDE6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6FBF9A-8D13-431C-BC6C-106483716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C7458F-C937-47EE-96A8-82002B9AB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B4F26-1DC1-456B-8FE8-DD1C1087B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B9EC4-D38F-4EAA-9205-8711ADCDF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F38681-FE29-4C1F-A772-06C1D27FA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816860-582F-4958-A8D7-137945DA9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ED50DB-E2ED-4F25-B3E6-51A1C21F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1348-68BD-49D7-B590-4EA94CD9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D250CF-AE76-47BF-828D-494D7F3F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11B30-21EE-4382-9E0C-656A7501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3E8FC-6888-4A66-88AF-F814B62C8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E9B98-B766-462A-A877-0AC05FCB0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FB4E3-B417-4607-85B0-F3BD3300C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51D8-98C8-4DB9-A9ED-DE4B4F74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D01B9-C564-4A33-8E9D-0D2391152E3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B8454-1E2C-4A0F-8F82-53539E5146B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63F60-E74E-47A7-AB07-123428E0836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D1CC6-54FF-4EA3-AF01-634A57713D2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EC22E-64D1-452E-8E52-E5DA6783635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292E0-9343-472C-81AF-F0451A2AF5E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5ABD4-D858-487A-A4F1-1F5755FCC8B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85920" y="1371600"/>
            <a:ext cx="7099200" cy="29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611617"/>
                </a:solidFill>
                <a:uFillTx/>
                <a:latin typeface="Times New Roman"/>
                <a:ea typeface="Times New Roman"/>
              </a:rPr>
              <a:t>Диагностическое </a:t>
            </a:r>
            <a:br>
              <a:rPr sz="4000"/>
            </a:br>
            <a:r>
              <a:rPr b="1" i="1" lang="ru-RU" sz="4000" spc="-1" strike="noStrike" u="sng">
                <a:solidFill>
                  <a:srgbClr val="611617"/>
                </a:solidFill>
                <a:uFillTx/>
                <a:latin typeface="Times New Roman"/>
                <a:ea typeface="Times New Roman"/>
              </a:rPr>
              <a:t>тестирование</a:t>
            </a:r>
            <a:br>
              <a:rPr sz="4000"/>
            </a:b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1 класс</a:t>
            </a:r>
            <a:br>
              <a:rPr sz="44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571760" y="3857760"/>
            <a:ext cx="6922800" cy="2286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619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4800" spc="-1" strike="noStrike">
                <a:solidFill>
                  <a:srgbClr val="922223"/>
                </a:solidFill>
                <a:latin typeface="Times New Roman"/>
                <a:ea typeface="Times New Roman"/>
              </a:rPr>
              <a:t>Математика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619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4800" spc="-1" strike="noStrike">
                <a:solidFill>
                  <a:srgbClr val="922223"/>
                </a:solidFill>
                <a:latin typeface="Times New Roman"/>
                <a:ea typeface="Times New Roman"/>
              </a:rPr>
              <a:t> </a:t>
            </a:r>
            <a:r>
              <a:rPr b="1" i="1" lang="ru-RU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базовый уровень)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619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3600" spc="-1" strike="noStrike">
                <a:solidFill>
                  <a:srgbClr val="922223"/>
                </a:solidFill>
                <a:latin typeface="Times New Roman"/>
                <a:ea typeface="Times New Roman"/>
              </a:rPr>
              <a:t>12.01.2016 г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61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642960" y="0"/>
            <a:ext cx="82915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Руководителям общеобразовательных учреждений, руководителям ШМО ОУ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овести анализ результатов пробного ЕГЭ 12.01.2016 г., продолжить работу по улучшению показателей успеваемости (без оценок «2») результатов Государственного экзамена 2016 года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Держать на личном контроле дополнительные занятия учителей математики в урочное и внеурочное время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зять на контроль проведение занятий по изучению и применению справочных материалов ЕГЭ по математике базового уровня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Руководителям СОШ № 3, СОШ № 8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Усилить контроль работы учителей математики на уроках и внеурочное время (дополнительные занятия) по подготовке к ЕГЭ по математике на базовом уровн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1000080" y="0"/>
            <a:ext cx="81439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Учителям математики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овести анализ затруднений обучающихся по результатам пробного ЕГЭ 12.01.2016 г. с целью их устранения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Обратить внимание на отработку общеучебных умений и навыков учащихся, скорость вычислительных действий без калькулятора, развитие логического мышления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овести занятий по изучению и применению справочных материалов ЕГЭ по математике базового уровня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ести работу с учащимися 11 классов по индивидуальному плану (в урочное и внеурочное время) подготовки к ЕГЭ на базовом уровне в 2016 году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13840" y="0"/>
            <a:ext cx="89298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2a6d7d"/>
                </a:solidFill>
                <a:latin typeface="Times New Roman"/>
                <a:ea typeface="Times New Roman"/>
              </a:rPr>
              <a:t>Участники</a:t>
            </a:r>
            <a:r>
              <a:rPr b="1" lang="ru-RU" sz="4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1" name="Содержимое 4" descr=""/>
          <p:cNvPicPr/>
          <p:nvPr/>
        </p:nvPicPr>
        <p:blipFill>
          <a:blip r:embed="rId1"/>
          <a:stretch/>
        </p:blipFill>
        <p:spPr>
          <a:xfrm>
            <a:off x="1047600" y="633240"/>
            <a:ext cx="7931160" cy="58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1000080" y="642960"/>
            <a:ext cx="814392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rbel"/>
              </a:rPr>
              <a:t>Экзаменационная работа состоит из одной части, включающей в себя 20 заданий </a:t>
            </a:r>
            <a:r>
              <a:rPr b="0" lang="ru-RU" sz="2800" spc="-1" strike="noStrike">
                <a:solidFill>
                  <a:srgbClr val="002060"/>
                </a:solidFill>
                <a:latin typeface="Corbel"/>
              </a:rPr>
              <a:t>с кратким ответом базового уровня сложности. Модель базового уровня предназначена для государственной итоговой аттестации выпускников, не планирующих продолжение образования  в профессиях, предъявляющих специальные требования к уровню математической подготовки. В работу включены  задания по всем основным предметным разделам: геометрия, алгебра, начала математического анализа, теория вероятностей, статистика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1000080" y="499680"/>
            <a:ext cx="7786800" cy="597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c4853"/>
                </a:solidFill>
                <a:latin typeface="Corbel"/>
              </a:rPr>
              <a:t>На выполнение экзаменационной работы отводится 3 часа.</a:t>
            </a: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4400" spc="-1" strike="noStrike">
                <a:solidFill>
                  <a:srgbClr val="835e01"/>
                </a:solidFill>
                <a:latin typeface="Corbel"/>
              </a:rPr>
              <a:t>Максимальное количество баллов за работу – 20</a:t>
            </a:r>
            <a:r>
              <a:rPr b="0" lang="ru-RU" sz="4400" spc="-1" strike="noStrike">
                <a:solidFill>
                  <a:srgbClr val="835e01"/>
                </a:solidFill>
                <a:latin typeface="Corbel"/>
              </a:rPr>
              <a:t>, за каждое верно выполненное задание 1 балл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rbel"/>
              </a:rPr>
              <a:t>Минимальный порог</a:t>
            </a:r>
            <a:r>
              <a:rPr b="0" lang="ru-RU" sz="4000" spc="-1" strike="noStrike">
                <a:solidFill>
                  <a:srgbClr val="ff0000"/>
                </a:solidFill>
                <a:latin typeface="Corbel"/>
              </a:rPr>
              <a:t> –</a:t>
            </a: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Corbel"/>
              </a:rPr>
              <a:t>7 баллов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buClr>
                <a:srgbClr val="c32d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571680"/>
            <a:ext cx="74995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2314"/>
                </a:solidFill>
                <a:latin typeface="Corbel"/>
              </a:rPr>
              <a:t>Шкала оценок </a:t>
            </a:r>
            <a:br>
              <a:rPr sz="39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06360" indent="-2372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Corbel"/>
              </a:rPr>
              <a:t>«2»</a:t>
            </a:r>
            <a:r>
              <a:rPr b="1" i="1" lang="ru-RU" sz="60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1" i="1" lang="ru-RU" sz="6000" spc="-1" strike="noStrike">
                <a:solidFill>
                  <a:srgbClr val="0070c0"/>
                </a:solidFill>
                <a:latin typeface="Corbel"/>
              </a:rPr>
              <a:t>-   0-6 баллов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306360" indent="-2372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Corbel"/>
              </a:rPr>
              <a:t>«3»</a:t>
            </a:r>
            <a:r>
              <a:rPr b="1" i="1" lang="ru-RU" sz="6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6000" spc="-1" strike="noStrike">
                <a:solidFill>
                  <a:srgbClr val="0070c0"/>
                </a:solidFill>
                <a:latin typeface="Corbel"/>
              </a:rPr>
              <a:t> -  7-11 баллов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306360" indent="-2372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Corbel"/>
              </a:rPr>
              <a:t>«4»</a:t>
            </a:r>
            <a:r>
              <a:rPr b="1" i="1" lang="ru-RU" sz="60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1" i="1" lang="ru-RU" sz="6000" spc="-1" strike="noStrike">
                <a:solidFill>
                  <a:srgbClr val="0070c0"/>
                </a:solidFill>
                <a:latin typeface="Corbel"/>
              </a:rPr>
              <a:t>-  12-16 баллов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306360" indent="-2372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Corbel"/>
              </a:rPr>
              <a:t>«5»</a:t>
            </a:r>
            <a:r>
              <a:rPr b="1" i="1" lang="ru-RU" sz="60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1" i="1" lang="ru-RU" sz="6000" spc="-1" strike="noStrike">
                <a:solidFill>
                  <a:srgbClr val="0070c0"/>
                </a:solidFill>
                <a:latin typeface="Corbel"/>
              </a:rPr>
              <a:t>-  17-20 баллов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306360" indent="-2372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-360"/>
            <a:ext cx="749952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900" spc="-1" strike="noStrike">
                <a:solidFill>
                  <a:srgbClr val="0070c0"/>
                </a:solidFill>
                <a:latin typeface="Corbel"/>
              </a:rPr>
              <a:t>Результаты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071360" y="428760"/>
            <a:ext cx="786276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«2»</a:t>
            </a:r>
            <a:r>
              <a:rPr b="0" lang="ru-RU" sz="28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- 3 (4,91% от общего числа участников тестирования)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«3»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- 21 (34,42 % от общего числа участников тестирования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«4»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- 23 (37,7 % от общего числа участников тестирования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«5»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- 14 (22,95 % от общего числа участников тестирования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orbel"/>
              </a:rPr>
              <a:t>3 ученика из СОШ № 2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orbel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Corbel"/>
              </a:rPr>
              <a:t>1 ученик из СОШ № 3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orbel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Corbel"/>
              </a:rPr>
              <a:t>1 ученик из СОШ № 8,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orbel"/>
              </a:rPr>
              <a:t>7 учеников из СОШ № 10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orbel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Corbel"/>
              </a:rPr>
              <a:t>2 ученика из Шугуровской СОШ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213920" y="0"/>
            <a:ext cx="792972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4900"/>
            </a:br>
            <a:endParaRPr b="0" lang="en-US" sz="4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856800" y="0"/>
            <a:ext cx="8001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Показатель</a:t>
            </a: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2800" spc="-1" strike="noStrike">
                <a:solidFill>
                  <a:srgbClr val="c00000"/>
                </a:solidFill>
                <a:latin typeface="Corbel"/>
              </a:rPr>
              <a:t>успеваемости</a:t>
            </a: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составил </a:t>
            </a:r>
            <a:r>
              <a:rPr b="1" i="1" lang="ru-RU" sz="2800" spc="-1" strike="noStrike">
                <a:solidFill>
                  <a:srgbClr val="c00000"/>
                </a:solidFill>
                <a:latin typeface="Corbel"/>
              </a:rPr>
              <a:t>95,09 %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Corbel"/>
              </a:rPr>
              <a:t>100 % успеваемости во всех школах, кроме СОШ № 3 – 83,34% и СОШ № 8 – 81,82 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Не выполнили 7 заданий учащиеся из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- СОШ № 3, </a:t>
            </a: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 обучающийся из </a:t>
            </a: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6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 участников тестирования (16,66%) (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- СОШ № 8, </a:t>
            </a: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2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 обучающихся из </a:t>
            </a: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11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 участников тестирования (18,18%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Имеются 5 учащихся набравшие ровно 7 баллов – группа риск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1214280" y="4643280"/>
          <a:ext cx="7596360" cy="2214720"/>
        </p:xfrm>
        <a:graphic>
          <a:graphicData uri="http://schemas.openxmlformats.org/drawingml/2006/table">
            <a:tbl>
              <a:tblPr/>
              <a:tblGrid>
                <a:gridCol w="1285920"/>
                <a:gridCol w="2143080"/>
                <a:gridCol w="2268720"/>
                <a:gridCol w="1898640"/>
              </a:tblGrid>
              <a:tr h="63108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alibri"/>
                          <a:ea typeface="Times New Roman"/>
                        </a:rPr>
                        <a:t>351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alibri"/>
                          <a:ea typeface="Times New Roman"/>
                        </a:rPr>
                        <a:t>ВОХМ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alibri"/>
                          <a:ea typeface="Times New Roman"/>
                        </a:rPr>
                        <a:t>ЕКАТЕР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alibri"/>
                          <a:ea typeface="Times New Roman"/>
                        </a:rPr>
                        <a:t>АЛЕКСАНДРОВ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960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alibri"/>
                          <a:ea typeface="Times New Roman"/>
                        </a:rPr>
                        <a:t>351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alibri"/>
                          <a:ea typeface="Times New Roman"/>
                        </a:rPr>
                        <a:t>ДУРАНД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alibri"/>
                          <a:ea typeface="Times New Roman"/>
                        </a:rPr>
                        <a:t>ВЕРО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alibri"/>
                          <a:ea typeface="Times New Roman"/>
                        </a:rPr>
                        <a:t>ПАВЛОВ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960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alibri"/>
                          <a:ea typeface="Times New Roman"/>
                        </a:rPr>
                        <a:t>351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alibri"/>
                          <a:ea typeface="Times New Roman"/>
                        </a:rPr>
                        <a:t>ЛЕГАЕ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alibri"/>
                          <a:ea typeface="Times New Roman"/>
                        </a:rPr>
                        <a:t>ДИА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alibri"/>
                          <a:ea typeface="Times New Roman"/>
                        </a:rPr>
                        <a:t>ЮРЬЕВ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9636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alibri"/>
                          <a:ea typeface="Times New Roman"/>
                        </a:rPr>
                        <a:t>3520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alibri"/>
                          <a:ea typeface="Times New Roman"/>
                        </a:rPr>
                        <a:t>ГАЛИМ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alibri"/>
                          <a:ea typeface="Times New Roman"/>
                        </a:rPr>
                        <a:t>ИЛЬМИ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alibri"/>
                          <a:ea typeface="Times New Roman"/>
                        </a:rPr>
                        <a:t>ИЛЬСУРОВ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9528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alibri"/>
                          <a:ea typeface="Times New Roman"/>
                        </a:rPr>
                        <a:t>353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alibri"/>
                          <a:ea typeface="Times New Roman"/>
                        </a:rPr>
                        <a:t>ПЕТР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alibri"/>
                          <a:ea typeface="Times New Roman"/>
                        </a:rPr>
                        <a:t>КИРИ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alibri"/>
                          <a:ea typeface="Times New Roman"/>
                        </a:rPr>
                        <a:t>АРТЕМОВИ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571680" y="0"/>
            <a:ext cx="85723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c00000"/>
                </a:solidFill>
                <a:latin typeface="Corbel"/>
              </a:rPr>
              <a:t> </a:t>
            </a:r>
            <a:r>
              <a:rPr b="1" i="1" lang="ru-RU" sz="2100" spc="-1" strike="noStrike">
                <a:solidFill>
                  <a:srgbClr val="c00000"/>
                </a:solidFill>
                <a:latin typeface="Corbel"/>
              </a:rPr>
              <a:t>Качество </a:t>
            </a:r>
            <a:r>
              <a:rPr b="1" i="1" lang="ru-RU" sz="2100" spc="-1" strike="noStrike">
                <a:solidFill>
                  <a:srgbClr val="000000"/>
                </a:solidFill>
                <a:latin typeface="Corbel"/>
              </a:rPr>
              <a:t>по району составило </a:t>
            </a:r>
            <a:r>
              <a:rPr b="1" i="1" lang="ru-RU" sz="2100" spc="-1" strike="noStrike">
                <a:solidFill>
                  <a:srgbClr val="c00000"/>
                </a:solidFill>
                <a:latin typeface="Corbel"/>
              </a:rPr>
              <a:t>60,65 %</a:t>
            </a:r>
            <a:r>
              <a:rPr b="1" i="1" lang="ru-RU" sz="2100" spc="-1" strike="noStrike">
                <a:solidFill>
                  <a:srgbClr val="000000"/>
                </a:solidFill>
                <a:latin typeface="Corbel"/>
              </a:rPr>
              <a:t> (14 оценок «5» и 23 оценок «4»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2100" spc="-1" strike="noStrike">
                <a:solidFill>
                  <a:srgbClr val="000000"/>
                </a:solidFill>
                <a:latin typeface="Corbel"/>
              </a:rPr>
              <a:t>Лучший показатель продемонстрировали СОШ № 2 – 100 % и СОШ № 6 – 100 %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Corbel"/>
              </a:rPr>
              <a:t>Выше муниципального показателя в СОШ № 10 – 88,23 %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1" i="1" lang="ru-RU" sz="2100" spc="-1" strike="noStrike">
                <a:solidFill>
                  <a:srgbClr val="ff0000"/>
                </a:solidFill>
                <a:latin typeface="Corbel"/>
              </a:rPr>
              <a:t>Средний </a:t>
            </a:r>
            <a:r>
              <a:rPr b="1" i="1" lang="ru-RU" sz="2100" spc="-1" strike="noStrike">
                <a:solidFill>
                  <a:srgbClr val="c00000"/>
                </a:solidFill>
                <a:latin typeface="Corbel"/>
              </a:rPr>
              <a:t>% выполнения  заданий </a:t>
            </a:r>
            <a:r>
              <a:rPr b="1" i="1" lang="ru-RU" sz="2100" spc="-1" strike="noStrike">
                <a:solidFill>
                  <a:srgbClr val="000000"/>
                </a:solidFill>
                <a:latin typeface="Corbel"/>
              </a:rPr>
              <a:t>– </a:t>
            </a:r>
            <a:r>
              <a:rPr b="1" i="1" lang="ru-RU" sz="2100" spc="-1" strike="noStrike">
                <a:solidFill>
                  <a:srgbClr val="c00000"/>
                </a:solidFill>
                <a:latin typeface="Corbel"/>
              </a:rPr>
              <a:t>64,18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Corbel"/>
              </a:rPr>
              <a:t>Лучший результат в СОШ № 2 – 84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Corbel"/>
              </a:rPr>
              <a:t>Выше муниципального показателя в СОШ № 10 – 77,94, в Шугуровской СОШ – 71,43, в СОШ № 6 – 67,5.         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2100" spc="-1" strike="noStrike">
                <a:solidFill>
                  <a:srgbClr val="000000"/>
                </a:solidFill>
                <a:latin typeface="Corbel"/>
              </a:rPr>
              <a:t>Ниже муниципального показателя средний балл в СОШ № 7 – 60; в СОШ № 5 – 56,25; в СОШ № 8 и СОШ № 3 – 50; в Старокувакской СОШ – 47,5, в гимназии № 11 – 37,5; в Зелено-Рощинской СОШ – 35;     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c00000"/>
                </a:solidFill>
                <a:latin typeface="Corbel"/>
              </a:rPr>
              <a:t>  </a:t>
            </a:r>
            <a:r>
              <a:rPr b="1" i="1" lang="ru-RU" sz="2100" spc="-1" strike="noStrike">
                <a:solidFill>
                  <a:srgbClr val="c00000"/>
                </a:solidFill>
                <a:latin typeface="Corbel"/>
              </a:rPr>
              <a:t>Средняя оценка </a:t>
            </a:r>
            <a:r>
              <a:rPr b="1" i="1" lang="ru-RU" sz="2100" spc="-1" strike="noStrike">
                <a:solidFill>
                  <a:srgbClr val="000000"/>
                </a:solidFill>
                <a:latin typeface="Corbel"/>
              </a:rPr>
              <a:t>по ЛМР составила </a:t>
            </a:r>
            <a:r>
              <a:rPr b="1" i="1" lang="ru-RU" sz="2100" spc="-1" strike="noStrike">
                <a:solidFill>
                  <a:srgbClr val="c00000"/>
                </a:solidFill>
                <a:latin typeface="Corbel"/>
              </a:rPr>
              <a:t>3,78</a:t>
            </a:r>
            <a:r>
              <a:rPr b="1" i="1" lang="ru-RU" sz="21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Corbel"/>
              </a:rPr>
              <a:t>Лучший результат в СОШ № 2 – 5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Corbel"/>
              </a:rPr>
              <a:t>Выше муниципального показателя в Шугуровской СОШ – 4,57, в СОШ № 10 – 4,29, в СОШ № 6 – 4.          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1" i="1" lang="ru-RU" sz="2100" spc="-1" strike="noStrike">
                <a:solidFill>
                  <a:srgbClr val="000000"/>
                </a:solidFill>
                <a:latin typeface="Corbel"/>
              </a:rPr>
              <a:t>Ниже муниципального показателя средняя оценка в СОШ № 5 и СОШ № 7 – 3,5, в СОШ № 3 – 3,33, в СОШ № 8 – 3,18, в гимназии № 11, в Зелено-рощинской СОШ, в Старокувакской СОШ -3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-360"/>
            <a:ext cx="6351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35e01"/>
                </a:solidFill>
                <a:latin typeface="Corbel"/>
              </a:rPr>
              <a:t>Выводы: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714240" y="1285920"/>
            <a:ext cx="82202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Уровень обученности математике выпускников 11 классов по результатам пробного ЕГЭ 12.01.2016 г. на базовом уровне на недостаточном уровне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Отметить положительный опыт работы по подготовке к ЕГЭ по математике школы с основными показателями выше муниципальных (успеваемость, качество, процент выполнения, средняя оценка):  СОШ № 2, СОШ № 6, СОШ № 10, Шугуровская СОШ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8T03:59:26Z</dcterms:created>
  <dc:creator>1</dc:creator>
  <dc:description/>
  <dc:language>en-US</dc:language>
  <cp:lastModifiedBy>Загидуллина </cp:lastModifiedBy>
  <dcterms:modified xsi:type="dcterms:W3CDTF">2016-02-05T04:34:27Z</dcterms:modified>
  <cp:revision>531</cp:revision>
  <dc:subject/>
  <dc:title>ГИА-9</dc:title>
</cp:coreProperties>
</file>